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32B82-56FE-4B59-A86B-90934E1E6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5CD62-E96A-4F51-A384-D7E2E7ED6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A1D25-BE84-422D-B2FB-CAFDAB1A8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0CED4-34E2-49EB-8111-964CD7624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33D97-9F61-436B-8382-7D5D1058C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1BD4E-8AAF-4379-9EB7-1C26EA598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65DD8-3B8F-4DE1-8FFA-E1610461B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4DD60-EA84-4CEE-AFBF-CE19FF422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C8690-F0A8-40F9-9F60-02C718BE0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0D6F5-81D6-415E-B9DD-77BF55306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E5BB0-CC85-46DB-A5CD-26CA295F1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FABF5-EBDA-4700-A864-BA3596EB6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C42EA-8784-4E2C-B2A2-C569951CAA4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F &amp; Verbeterdebuur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raktische toepassing van de StUF standaard  voor gegevensuitwisseling</a:t>
            </a:r>
            <a:endParaRPr b="0" lang="en-US" sz="3200" spc="-1" strike="noStrike">
              <a:solidFill>
                <a:srgbClr val="000000"/>
              </a:solidFill>
              <a:latin typeface="Calibri"/>
            </a:endParaRPr>
          </a:p>
        </p:txBody>
      </p:sp>
      <p:sp>
        <p:nvSpPr>
          <p:cNvPr id="43" name=""/>
          <p:cNvSpPr/>
          <p:nvPr/>
        </p:nvSpPr>
        <p:spPr>
          <a:xfrm>
            <a:off x="757440" y="5805360"/>
            <a:ext cx="44967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98989"/>
                </a:solidFill>
                <a:latin typeface="Arial"/>
              </a:rPr>
              <a:t>Gershon Janssen (gershon.janssen@tiscali.nl),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98989"/>
                </a:solidFill>
                <a:latin typeface="Arial"/>
              </a:rPr>
              <a:t>Chiljon Janssen (chiljon.janssen@gmail.co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98989"/>
                </a:solidFill>
                <a:latin typeface="Arial"/>
              </a:rPr>
              <a:t>StUF regiegroep - 6 April 201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rgerinitiatief naar gemeente (1)</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en landelijk burgerinitiatief zal meldingen moeten doorzetten naar 418 gemeenten</a:t>
            </a:r>
            <a:endParaRPr b="0" lang="en-US" sz="3200" spc="-1" strike="noStrike">
              <a:solidFill>
                <a:srgbClr val="000000"/>
              </a:solidFill>
              <a:latin typeface="Calibri"/>
            </a:endParaRPr>
          </a:p>
        </p:txBody>
      </p:sp>
      <p:pic>
        <p:nvPicPr>
          <p:cNvPr id="63" name="Picture 5" descr="burgerinitiatief01.png"/>
          <p:cNvPicPr/>
          <p:nvPr/>
        </p:nvPicPr>
        <p:blipFill>
          <a:blip r:embed="rId1"/>
          <a:stretch/>
        </p:blipFill>
        <p:spPr>
          <a:xfrm>
            <a:off x="1928880" y="2786040"/>
            <a:ext cx="503856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lregels MOB</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lregels voor MOB:</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rge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 een totaaloverzicht van meldingen kunnen zi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 kunnen zien of een melding al is opgelost (statu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meent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 geen dubbele meldin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catie van hoeveel mensen dit een probleem vin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rgerinitiatief naar gemeente (2)</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en landelijk burgerinitiatief zal tweerichtingsverkeer met 418 gemeenten moeten onderhouden</a:t>
            </a:r>
            <a:endParaRPr b="0" lang="en-US" sz="3200" spc="-1" strike="noStrike">
              <a:solidFill>
                <a:srgbClr val="000000"/>
              </a:solidFill>
              <a:latin typeface="Calibri"/>
            </a:endParaRPr>
          </a:p>
        </p:txBody>
      </p:sp>
      <p:pic>
        <p:nvPicPr>
          <p:cNvPr id="68" name="Picture 6" descr="burgerinitiatief02.png"/>
          <p:cNvPicPr/>
          <p:nvPr/>
        </p:nvPicPr>
        <p:blipFill>
          <a:blip r:embed="rId1"/>
          <a:stretch/>
        </p:blipFill>
        <p:spPr>
          <a:xfrm>
            <a:off x="2357280" y="3214800"/>
            <a:ext cx="4592880" cy="333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flow richting de back-offic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estaande “koppeling” met de gemeent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Nieuwe melding:</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CC ontvangt mail en stuurt deze door naar stadsbeheer</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dewerker stadsbeheer voert handmatig de melding op in de back-office applicatie</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tatus bestaande melding:</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dewerker stadsbeheer logt in op de beheermodule van het burgerinitiatief</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ndmatig bijwerken van de status in het systeem</a:t>
            </a:r>
            <a:endParaRPr b="0" lang="en-US" sz="22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alibri"/>
              </a:rPr>
              <a:t>           </a:t>
            </a:r>
            <a:r>
              <a:rPr b="1" i="1" lang="en-US" sz="3000" spc="-1" strike="noStrike">
                <a:solidFill>
                  <a:srgbClr val="000000"/>
                </a:solidFill>
                <a:latin typeface="Calibri"/>
              </a:rPr>
              <a:t>Sterke behoefte aan automatisering!</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ardisati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 workflow voor Meldingen Openbare Buitenruimten vanuit burgerinitiatieven vraagt om standaardisati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anuit het burgerinitiatief: </a:t>
            </a:r>
            <a:r>
              <a:rPr b="0" lang="en-US" sz="2800" spc="-1" strike="noStrike">
                <a:solidFill>
                  <a:srgbClr val="000000"/>
                </a:solidFill>
                <a:latin typeface="Calibri"/>
              </a:rPr>
              <a:t>418 koppelingen realiser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anuit de gemeente: </a:t>
            </a:r>
            <a:r>
              <a:rPr b="0" lang="en-US" sz="2800" spc="-1" strike="noStrike">
                <a:solidFill>
                  <a:srgbClr val="000000"/>
                </a:solidFill>
                <a:latin typeface="Calibri"/>
              </a:rPr>
              <a:t>&gt;6 koppelingen realiseren met burgerinitiatieve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 name="Picture 3" descr="burgerinitiatief02.png"/>
          <p:cNvPicPr/>
          <p:nvPr/>
        </p:nvPicPr>
        <p:blipFill>
          <a:blip r:embed="rId1"/>
          <a:stretch/>
        </p:blipFill>
        <p:spPr>
          <a:xfrm>
            <a:off x="6858000" y="357120"/>
            <a:ext cx="1878120" cy="1363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chitectuur Verbeterdebuurt</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pen Data Platform: centrale database met alle Meldingen Openbare Buitenruimten van Nederla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ndersteuning va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nmaken van nieuwe meldinge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raag / Antwoord op meldinge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nchronisatie van meldingen</a:t>
            </a:r>
            <a:endParaRPr b="0" lang="en-US" sz="2000" spc="-1" strike="noStrike">
              <a:solidFill>
                <a:srgbClr val="000000"/>
              </a:solidFill>
              <a:latin typeface="Calibri"/>
            </a:endParaRPr>
          </a:p>
        </p:txBody>
      </p:sp>
      <p:pic>
        <p:nvPicPr>
          <p:cNvPr id="76" name="Picture 3" descr="vbdb totaal concept 01.png"/>
          <p:cNvPicPr/>
          <p:nvPr/>
        </p:nvPicPr>
        <p:blipFill>
          <a:blip r:embed="rId1"/>
          <a:stretch/>
        </p:blipFill>
        <p:spPr>
          <a:xfrm>
            <a:off x="1643040" y="4071960"/>
            <a:ext cx="6181920" cy="2514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face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 name="Picture 3" descr="vbdb totaal interfaces 02.png"/>
          <p:cNvPicPr/>
          <p:nvPr/>
        </p:nvPicPr>
        <p:blipFill>
          <a:blip r:embed="rId1"/>
          <a:stretch/>
        </p:blipFill>
        <p:spPr>
          <a:xfrm>
            <a:off x="1428840" y="1500120"/>
            <a:ext cx="6286320" cy="5089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de interface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Nieuwe meldinge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tUF-EF, GEMMA e-Formulier, </a:t>
            </a:r>
            <a:r>
              <a:rPr b="1" i="1" lang="nl-NL" sz="2600" spc="-1" strike="noStrike">
                <a:solidFill>
                  <a:srgbClr val="000000"/>
                </a:solidFill>
                <a:latin typeface="Calibri"/>
              </a:rPr>
              <a:t>Een melding woon- of leefomgeving doen, </a:t>
            </a:r>
            <a:r>
              <a:rPr b="1" lang="en-US" sz="2600" spc="-1" strike="noStrike">
                <a:solidFill>
                  <a:srgbClr val="000000"/>
                </a:solidFill>
                <a:latin typeface="Calibri"/>
              </a:rPr>
              <a:t>GS10WLO</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oegevoegd ExtraElemente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t, long</a:t>
            </a:r>
            <a:endParaRPr b="0" lang="en-US" sz="2200" spc="-1" strike="noStrike">
              <a:solidFill>
                <a:srgbClr val="000000"/>
              </a:solidFill>
              <a:latin typeface="Calibri"/>
            </a:endParaRPr>
          </a:p>
          <a:p>
            <a:pPr lvl="3" marL="16002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sitie van de melding op de kaart</a:t>
            </a:r>
            <a:endParaRPr b="0" lang="en-US" sz="19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e</a:t>
            </a:r>
            <a:endParaRPr b="0" lang="en-US" sz="2200" spc="-1" strike="noStrike">
              <a:solidFill>
                <a:srgbClr val="000000"/>
              </a:solidFill>
              <a:latin typeface="Calibri"/>
            </a:endParaRPr>
          </a:p>
          <a:p>
            <a:pPr lvl="3" marL="16002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ype melding: problem of idea</a:t>
            </a:r>
            <a:endParaRPr b="0" lang="en-US" sz="19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te</a:t>
            </a:r>
            <a:endParaRPr b="0" lang="en-US" sz="2200" spc="-1" strike="noStrike">
              <a:solidFill>
                <a:srgbClr val="000000"/>
              </a:solidFill>
              <a:latin typeface="Calibri"/>
            </a:endParaRPr>
          </a:p>
          <a:p>
            <a:pPr lvl="3" marL="16002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edoeld voor stem op een bestaande melding</a:t>
            </a:r>
            <a:endParaRPr b="0" lang="en-US" sz="19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ment</a:t>
            </a:r>
            <a:endParaRPr b="0" lang="en-US" sz="2200" spc="-1" strike="noStrike">
              <a:solidFill>
                <a:srgbClr val="000000"/>
              </a:solidFill>
              <a:latin typeface="Calibri"/>
            </a:endParaRPr>
          </a:p>
          <a:p>
            <a:pPr lvl="3" marL="16002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edoeld voor commentaar op een bestaande melding</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de interfaces (2)</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raag / Antwoord op meldinge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UF-ZKN, zakLv01: </a:t>
            </a:r>
            <a:r>
              <a:rPr b="1" lang="nl-NL" sz="2800" spc="-1" strike="noStrike">
                <a:solidFill>
                  <a:srgbClr val="000000"/>
                </a:solidFill>
                <a:latin typeface="Calibri"/>
              </a:rPr>
              <a:t>een synchroon vraagbericht naar de actuele gegeve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libri"/>
              </a:rPr>
              <a:t>extraElementen uit EF vraag je via EDC weer op uit de zaa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libri"/>
              </a:rPr>
              <a:t>Implementatie issu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lak bevraging en coördinaten melding waarschijnlijk niet juist geïmplementeerd in het bericht door onjuist gebruik gemeentelijkeOpenbareRuimte</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DC inhoud niet MIME gecodeerd</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interfaces (3)</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ynchronisatie van meldingen tussen Zaaksystem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F-ZKN, zakLk02: </a:t>
            </a:r>
            <a:r>
              <a:rPr b="0" lang="nl-NL" sz="2800" spc="-1" strike="noStrike">
                <a:solidFill>
                  <a:srgbClr val="000000"/>
                </a:solidFill>
                <a:latin typeface="Calibri"/>
              </a:rPr>
              <a:t>een synchroon kennisgevingbericht zonder toekomstmutaties, mutatiesoort T en 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egevoegd ExtraElemente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t, long</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itie van de melding op de kaart</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 Meldingen Openbare Buitenruim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ndaardisat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itectu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fa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e op StUF L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 ondersteunen we niet?</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mplementatie ondersteunt op dit moment nog nie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F-ZKN synchronisatie berichte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Use case: initiele vull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atio: functionaliteit wordt gebouwd naar behoef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e StUF Lite (1)</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libri"/>
              </a:rPr>
              <a:t>Conclusies  en reacties uit rapport StUF Lite:</a:t>
            </a: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35480" indent="-28296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Calibri"/>
              </a:rPr>
              <a:t>Conclusie 1: Er is behoefte aan een eenvoudiger berichtformaat voor gegevensuitwisseling binnen de overheid dan StUF in zijn huidige vorm biedt. </a:t>
            </a:r>
            <a:endParaRPr b="0" lang="en-US" sz="21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35480" indent="-28296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Calibri"/>
              </a:rPr>
              <a:t>Reactie: StUF wordt als complex ervaren door het </a:t>
            </a:r>
            <a:r>
              <a:rPr b="0" lang="nl-NL" sz="2100" spc="-1" strike="noStrike" u="sng">
                <a:solidFill>
                  <a:srgbClr val="000000"/>
                </a:solidFill>
                <a:uFillTx/>
                <a:latin typeface="Calibri"/>
              </a:rPr>
              <a:t>ontbreken</a:t>
            </a:r>
            <a:r>
              <a:rPr b="0" lang="nl-NL" sz="2100" spc="-1" strike="noStrike">
                <a:solidFill>
                  <a:srgbClr val="000000"/>
                </a:solidFill>
                <a:latin typeface="Calibri"/>
              </a:rPr>
              <a:t> van </a:t>
            </a:r>
            <a:endParaRPr b="0" lang="en-US" sz="2100" spc="-1" strike="noStrike">
              <a:solidFill>
                <a:srgbClr val="000000"/>
              </a:solidFill>
              <a:latin typeface="Calibri"/>
            </a:endParaRPr>
          </a:p>
          <a:p>
            <a:pPr lvl="2" marL="1131480" indent="-22608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Calibri"/>
              </a:rPr>
              <a:t>(a) vindbaarheid van spec en code </a:t>
            </a:r>
            <a:endParaRPr b="0" lang="en-US" sz="1900" spc="-1" strike="noStrike">
              <a:solidFill>
                <a:srgbClr val="000000"/>
              </a:solidFill>
              <a:latin typeface="Calibri"/>
            </a:endParaRPr>
          </a:p>
          <a:p>
            <a:pPr lvl="2" marL="1131480" indent="-22608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Calibri"/>
              </a:rPr>
              <a:t>(b) goede documentatie (bijvoorbeeld: cookbook met use cases en voorbeelden) </a:t>
            </a:r>
            <a:endParaRPr b="0" lang="en-US" sz="1900" spc="-1" strike="noStrike">
              <a:solidFill>
                <a:srgbClr val="000000"/>
              </a:solidFill>
              <a:latin typeface="Calibri"/>
            </a:endParaRPr>
          </a:p>
          <a:p>
            <a:pPr lvl="2" marL="1131480" indent="-22608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Calibri"/>
              </a:rPr>
              <a:t>(c) werkende voorbeelden</a:t>
            </a:r>
            <a:endParaRPr b="0" lang="en-US" sz="1900" spc="-1" strike="noStrike">
              <a:solidFill>
                <a:srgbClr val="000000"/>
              </a:solidFill>
              <a:latin typeface="Calibri"/>
            </a:endParaRPr>
          </a:p>
          <a:p>
            <a:pPr lvl="2" marL="1131480" indent="-22608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Calibri"/>
              </a:rPr>
              <a:t>(d) een testfaciliteit </a:t>
            </a:r>
            <a:endParaRPr b="0" lang="en-US" sz="1900" spc="-1" strike="noStrike">
              <a:solidFill>
                <a:srgbClr val="000000"/>
              </a:solidFill>
              <a:latin typeface="Calibri"/>
            </a:endParaRPr>
          </a:p>
          <a:p>
            <a:pPr lvl="2" marL="1131480" indent="-22608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Calibri"/>
              </a:rPr>
              <a:t>(e) actief discussie forum / mailinglist </a:t>
            </a:r>
            <a:endParaRPr b="0" lang="en-US" sz="1900" spc="-1" strike="noStrike">
              <a:solidFill>
                <a:srgbClr val="000000"/>
              </a:solidFill>
              <a:latin typeface="Calibri"/>
            </a:endParaRPr>
          </a:p>
          <a:p>
            <a:pPr lvl="2" marL="1131480" indent="-22608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Calibri"/>
              </a:rPr>
              <a:t>(f) heldere patch strategie</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e StUF Lite (2)</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libri"/>
              </a:rPr>
              <a:t>Conclusies  en reacties uit rapport StUF Li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Conclusie 2:</a:t>
            </a:r>
            <a:r>
              <a:rPr b="1" lang="nl-NL" sz="2100" spc="-1" strike="noStrike">
                <a:solidFill>
                  <a:srgbClr val="000000"/>
                </a:solidFill>
                <a:latin typeface="Calibri"/>
              </a:rPr>
              <a:t>De StUF standaard is in de loop der tijd complex geworden, omdat StUF het stelsel van basisregistraties wil faciliteren. Dit maakt StUF in de praktijk lastig te gebruiken voor eenvoudige toepassingen. </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Calibri"/>
              </a:rPr>
              <a:t>Reactie: Lastig gebruik zit in het vinden van de juiste berichten.  Voorts gebruikt de beoogde doelgroep voor StUF lite  scripttalen als PHP en Perl. Deze scripttalen kennen geen web services framework.</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e StUF Lite (3)</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ls use case wordt opgevoerd Meldingen Openbare Buitenruimten. Hoe ziet de architectuur van een oplossing eruit bij gebruik van StUF Lite? Door welke componenten worden deze berichten verwerkt binnen de gemeente?</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Welke use cases naast Meldingen Openbare Buitenruimten vergen een StUF Lite aanpa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anleiding</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Calibri"/>
              </a:rPr>
              <a:t>Internet heeft een groeiend effect op de samenlev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ocial Medi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obile App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Calibri"/>
              </a:rPr>
              <a:t>Courante trends richting Overheid 2.0:</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verheid als platfor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penheid als norm</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Calibri"/>
              </a:rPr>
              <a:t>Toepassingen in het publieke domein vragen om integratie met de overheid</a:t>
            </a:r>
            <a:endParaRPr b="0" lang="en-US" sz="27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gramma Burgerlink, www.burgerlink.nl</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l</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resentatie over de achtergrond, implementatie en toepassing van de StUF standaa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Terugkoppeling aan de werkgroep over hoe de StUF standaard praktisch wordt toegepast en welke aspecten we zijn tegengekom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e en wat</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erbeterdebuur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al platform om de buurt te kunnen verbetere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ire focus: Meldingen Openbare Buitenruimte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hiljon Jansse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ftware Architec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alisatie: Middleware en Integrati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ndachtsgebieden: Data integrati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ershon Jansse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Architec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Specialisatie: Standaardisati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ndachtsgebieden: Architectuur, SOA, Cloud, Identity en Privac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2" name="Picture 2" descr=""/>
          <p:cNvPicPr/>
          <p:nvPr/>
        </p:nvPicPr>
        <p:blipFill>
          <a:blip r:embed="rId1"/>
          <a:stretch/>
        </p:blipFill>
        <p:spPr>
          <a:xfrm>
            <a:off x="3000240" y="1428840"/>
            <a:ext cx="2214720" cy="44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a</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Calibri"/>
              </a:rPr>
              <a:t>Persberichten over Verbeterdebuurt en StUF:</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Calibri"/>
              </a:rPr>
              <a:t>http://www.binnenlandsbestuur.nl/nieuws/2010/12/losse-stoeptegel-hoeft-niet-meer-per-e-mail.595679.lynkx</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Calibri"/>
              </a:rPr>
              <a:t>http://www.automatiseringgids.nl/it-in-bedrijf/innovatie/2010/52/iphone-gemor-linea-recta-naar-beambten.aspx</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Calibri"/>
              </a:rPr>
              <a:t>http://www.govunited.nl/Actueel/Nieuwsarchief/December_2010/Verbeterdebuurt_gekoppeld_aan_zaaksysteem_GovUnited_meldingen_openbare_ruimte_in_nieuwe_StUF_berichtenstandaard</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speelveld</a:t>
            </a:r>
            <a:endParaRPr b="0" lang="en-US" sz="4400" spc="-1" strike="noStrike">
              <a:solidFill>
                <a:srgbClr val="000000"/>
              </a:solidFill>
              <a:latin typeface="Calibri"/>
            </a:endParaRPr>
          </a:p>
        </p:txBody>
      </p:sp>
      <p:pic>
        <p:nvPicPr>
          <p:cNvPr id="56" name="Content Placeholder 5" descr="contextplaat 1.png"/>
          <p:cNvPicPr/>
          <p:nvPr/>
        </p:nvPicPr>
        <p:blipFill>
          <a:blip r:embed="rId1"/>
          <a:stretch/>
        </p:blipFill>
        <p:spPr>
          <a:xfrm>
            <a:off x="1517760" y="1600200"/>
            <a:ext cx="61084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lers op de mark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beterdebuu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tenBe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rgerConn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urtRad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nale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rger kan tegenwoordig Melding Openbare Buitenruimten </a:t>
            </a:r>
            <a:r>
              <a:rPr b="1" lang="en-US" sz="2200" spc="-1" strike="noStrike" u="sng">
                <a:solidFill>
                  <a:srgbClr val="000000"/>
                </a:solidFill>
                <a:uFillTx/>
                <a:latin typeface="Calibri"/>
              </a:rPr>
              <a:t>maken</a:t>
            </a:r>
            <a:r>
              <a:rPr b="1" lang="en-US" sz="2200" spc="-1" strike="noStrike">
                <a:solidFill>
                  <a:srgbClr val="000000"/>
                </a:solidFill>
                <a:latin typeface="Calibri"/>
              </a:rPr>
              <a:t> via de kanale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rect aan de gemeente</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ebsite</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lefoon</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mail</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rief</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Via burgerinitiatief (landelijk)</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ebsite</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obile App</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 burger zal haar kanaal kiezen op basis van gemak en bruikbaarhei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4:45:04Z</dcterms:created>
  <dc:creator>Gershon Janssen</dc:creator>
  <dc:description/>
  <dc:language>en-US</dc:language>
  <cp:lastModifiedBy>Gershon Janssen</cp:lastModifiedBy>
  <dcterms:modified xsi:type="dcterms:W3CDTF">2011-04-06T10:19:58Z</dcterms:modified>
  <cp:revision>20</cp:revision>
  <dc:subject/>
  <dc:title>StUF &amp; Verbeterdebuurt</dc:title>
</cp:coreProperties>
</file>